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4F67-98C6-4387-B3F5-42372072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641-C072-4FD6-B18F-6153F5FC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5E7A-7A0C-4CEC-8AC1-9F31EC28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43C6-0385-4644-BDF1-CDB58675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1F3C-55BD-4479-A325-B0485D7E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2F3-D3C3-49C7-8E46-2C2D3F4A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7AA4-B6D3-4D8D-A497-F3992C8B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C191-350D-4ACE-91A4-B1B529BA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6DE8-5C96-4B57-9719-88BEB520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0A0-1C36-4BA0-B2A7-5F3FE9B5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9985-7AAD-4273-879E-7850A165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003-1EA7-4F8F-92E7-7E596802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4B17-1776-412E-90E1-659D5A2F1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 level foreca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762120" y="5791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Quiana Harr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crow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reasing floods is causing people who live in Kiribati islands to move in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son told the report that if they keep moving we’re in danger of falling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there are roughly about 1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izens in the capital of Tarawa, Tarawa is suffering from overcrowding. These people have no where to 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8:18:01Z</dcterms:created>
  <dc:creator>PA Department of Education</dc:creator>
  <dc:description/>
  <dc:language>en-US</dc:language>
  <cp:lastModifiedBy>PA Department of Education</cp:lastModifiedBy>
  <dcterms:modified xsi:type="dcterms:W3CDTF">2009-05-29T18:20:25Z</dcterms:modified>
  <cp:revision>3</cp:revision>
  <dc:subject/>
  <dc:title>Sea level forecasting</dc:title>
</cp:coreProperties>
</file>